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1BA6DE9-ABDA-4C17-863D-74486F11440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7154206-B4AE-4141-BA28-F3F2954B3FB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150F-5159-4F90-9B1C-B11FB469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3F3-5EC3-4256-97EF-0553B810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9E5E2D-BF6F-4CCE-B355-413C835C03D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460325-2444-4717-8CE5-9D5F6433A8C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EEB9BC-BBEC-465F-9BBB-9338769D3B7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CFB070-7F33-4BD0-B1EF-A6531260E82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576317-0CFD-44E8-B682-08F769200D8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2A9B1D-FE58-4C08-A3D4-A2FAF23FA59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ADF458-DCA6-4036-8F37-652D77C17FD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5B34FF-5A5D-4D12-AF15-D182AFE2F46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800285-F4DF-4F52-BFEF-4201575B5A9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D802FE-0DB8-46B9-9C0A-8FC4C4ED1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64D-411B-4879-B58B-CC9D3F42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6ACDBE-F79D-4CEE-A436-50618397F13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7EF5BE-1D93-4286-B101-5711F75969F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9B406-AFEE-4948-BEBB-C29EFFBCE99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A87B8D-89C0-4E11-92C4-B7D41B66642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DFDDCB-7C77-4CAD-9C9F-711E6854D20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3F451E-EF13-4A9B-A6BA-960CC8DB335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A928F5-438C-430F-9BB7-408B734C9CB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6159A2-FF9D-4024-9FD3-C839DB8310C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22A78A-B808-40FC-8DDF-AB9BB662959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5FC673-10A7-4CDD-BFFE-561CAC2F2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B1AB-58E3-4752-B48F-B86ED36B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6FC0AB-7DB2-44A3-B8B1-7C1A4C385A7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62410-D6E5-4DB4-9EE2-8F8DFB2F7FA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DEF62-A768-42D6-90DC-200264EE725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E0EFC-6412-456D-B6EF-48C14AAC21A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D88A8-D3CA-4B6C-BA7E-2E01AB40658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AC650-E860-4DD4-9A74-CF1FF30D1B7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A5950-BA6C-4EBA-944A-CF60F8E6060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98648-25EA-4648-B88D-6168FA97696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86DCB-85C7-404B-904A-EBDEC6AB8DA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488E0-2A51-4DDB-B8C8-829CFAF129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55FB1-83DE-4316-A8B7-04095BC890A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50617-F039-4DFE-983C-80E476584F1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01B64-4649-4689-A362-FF1FCAD54C8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1AB035-A315-47FB-BD05-75D16C186D7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30DFF7-81AC-46D5-81E3-F669C82DF66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0B66DA-1AAB-4A5A-9695-1730E498329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E8C6E5-38B5-4DDB-8724-7D3E565BDDB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47C6D2-F6E8-48F7-B1AE-D99B2E1F25C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7412DB-E399-4460-9D92-158B937896A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10D021-DC6A-40CF-935C-BCA8905368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8B8A5B-3303-4F9B-A3E1-AED55171C08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874ECD-4E3A-4FF2-9C67-EC487E0744B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C08B37-95A5-4C05-BD41-8E65BBDF313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862933-6C4B-4EC9-91C4-FCE91643824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492FA6-83E5-44CF-BF2F-3B47A89A876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C03838-5C7F-4F3B-8ECF-2AE7E421372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B80EE3-9E60-4262-ADAC-98E9F5C3B30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9CF6E4-BF67-44A9-B7FD-601D824DC3E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5698B-14C4-4194-8582-096BB42D464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B4E200-4FA5-4AEA-A7DA-DD60AF395E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A6EDC6-3329-49CF-88BC-4362C623F74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B2B7FB-1B7D-4657-8571-5E1301DB396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E56598-C4DA-430F-A052-07FD2C06A07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D2FF43-526B-4905-B22A-4E91A5169CB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C254EA-E84E-48D6-AB25-A08002A8869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54302E-100A-4053-8033-E7C198D8EE8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18040-BF53-4EDA-89B9-8110F5C28DE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A1930-4937-4340-A388-6546823F5FF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3543D-B2F1-4B99-8E94-43E1BBD91E0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64A38-62B3-4D92-B525-FF55CBE5B2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67B56-4FBA-40DB-A01C-0E46163583A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C1FFD-12FB-44CD-9479-0FD4236783A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EE529-4904-497C-A2A9-8DFF2922250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852BA-8EAB-424A-BE37-61ECE7CBC45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EC3AF-7F08-44C9-9C43-AAD14D50739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6F0C6-40A5-4A0B-A912-CB5E569C393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14578-5A5B-4D8D-871B-EA7E4A14480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60706-9C6D-4CFE-9D30-C906DC64FCB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2F29A-BE6B-418B-B637-ABEA7602333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E0BB1F-F0DA-4AA6-96F4-72FC79D3DE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B368D5-3E77-4373-BDF4-5DC3B4D2836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740A5A-6D02-42D0-ADDA-9063FD7738C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EB9966-9B5A-46B7-B028-021A843C290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F1B260-FE05-440A-A928-A03A7879B39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1DA1C9-1AB7-4E95-9217-359EFA5274C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574556-5624-44C8-8080-5CE904AC087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03A9D2-B9D5-4796-91D2-F6F5A3A9C8C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3FB917-2DE7-4AA3-A1C1-6034CCE87A2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7E4BA8-58E6-4210-926F-4035DDF4EA6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9EFE14-6DA9-4811-8EFF-06CE76FA4D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E711B5-674D-47B1-B70C-8F16C6EC7B7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F62052-1DCE-4758-BE93-5C608634497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1D2C74-F992-45AF-817B-69672AE024A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0F4EDA-5458-4EAD-B572-55888C17309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B2DE36-C4DE-4E94-9D1B-83E09C1C855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15CED-2DA6-44A1-8403-805AF8C7F1A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A095F4-B0C3-4C96-A8BA-08F43322320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2042CE-2A6C-40AB-A6DD-8C5BCC4AFF6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1060DF-6758-46AA-AA24-E1653F9AD5D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5848EC-50AE-4062-965B-C724BCAE9E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1203C8-D4D2-401D-B82F-E352EB53F45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489622-4437-470D-92F7-19D78F7FA86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593000-EFEC-436F-90CE-D855163D626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62C-3FBA-44C0-9616-E41690C3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3C1D5-ACE7-4243-B228-926A251816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A61E0-8BB5-441D-AB07-75D1E8412E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20847-1235-44D5-A972-75F07BB41C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B646F-EBDD-4A9C-B633-609CC11E59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BC144-951F-4A54-B21C-B6DFEE3325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6D79-9104-4F8D-89B9-E4E1FE7E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1640B-1634-42BE-B6F3-7539143423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2C38C-E5DE-434C-98EA-26EC059625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7CB9C-EA03-4D52-918C-D2C805E301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45653-BFCB-407D-AB36-8EA85ECBE0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5B556-DD6D-421B-9618-A8838CEE1D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D38F4-3CD9-4566-96BD-CCD378780D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4477A-33AA-4F62-8AAD-636CE39B1A9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89872-BC62-48C9-B1C1-7784616C9C1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D8052-9794-42AB-9260-F85D7F8CB1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B4F77-6D2C-4FEF-A0B0-2DA7B2E0D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BBF-5621-4ED1-AD4B-05F37725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9B5DF-ACD9-4D64-B370-D9971960AA6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EC32A-7CBC-4EB4-8E86-7C74CB74F3D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9B28D-C954-4EA1-8831-45C83E083A8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14763-E230-4A54-91E3-02043677AF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5A779-410E-4346-B3C1-68A06BC7B0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56674-D3B5-4260-B170-E9753C32D5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030DD-1F56-4D16-BBC3-0A055CA2F7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ABB45-381B-4A7C-98CB-39078CABF4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12E2E-5DCC-4BDE-9196-9C4B815C650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C30F-F2E2-4E5A-B9DA-79AE54C2D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E689-16F9-4034-BF63-ACA31726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59F2-3BCE-4F64-93AF-050803ED1FA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B696-BC64-411E-B73B-CC69ED032DC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1AAE-93F3-4D1C-A8FF-7136A9217C2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0832-8700-49BD-892A-46FC2640642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A0BE-F518-4952-AE2D-48B27EA7CD3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44B6-5462-4A4F-AE42-74A275AAC11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DEBA-DDBD-4CB8-B412-B2D38AF5BE8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8D53-A3AB-47A7-9438-C32299A7093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DA48-AD2D-49FB-898C-49B49F9AC6C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8CB8-2E76-4DE5-B7A0-5481D85CF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1EC-542D-49F7-BC03-8F621A46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70C3-F95A-484F-B865-EE1A1676139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2EA253-9EBC-4E9D-8E05-3B13777F176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D229E7-128C-4664-ADAB-6DCF77FA6E2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5BEF83-E37F-440F-9F59-2D6B0954D35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94E89D-F248-4243-89CE-55502F7F561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380AB8-1B47-49CF-A7EE-1CFFC833C11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0505D7-E4DA-4309-BEEB-48678965498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06230D-F685-43DF-A886-0267A97F632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257F5E-0397-41C8-9D8F-A46B1596C86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4FE7F1-26E6-4D30-9EAF-0D70552B4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9BC-EA27-431A-99FB-C72E2B3D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7FDD3E-1D48-4409-A3DA-C9D389123C6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A21A44-9943-4920-843C-94A1AB09E2D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A12867-6855-43CA-8DE7-D3E7AE8362E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53988A-54E2-4AB4-9B9E-614A550367A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2643F-D084-4E10-AA6C-0C838583EF0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893AE-FFD7-4DBE-9B41-974454A9A72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393DB-A8F6-4148-A9B7-EC7921F6D66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52EB3-5069-48D9-BD6A-18C47CD0585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E7984-E8E8-4B44-8972-E8F71653907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8EDB3-A532-472F-909D-A21F51046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6B99-750F-4D83-B8A5-D7C5F6CB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7CE14-72D1-4A77-A5FD-2D58EFE6F72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ACE3E-EABB-42B4-BD8B-0FA4F529C46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F8047-CD23-4143-A4EB-81EC061057A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0F192-488D-4FB8-B880-A0ADCA32D89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CA37F-1718-4826-84D7-483850CE65B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79BD0-7C69-44E5-869A-1CE1612CDB1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F02A7-4829-498A-87A0-D5EC06C5D98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31FAA-3EC0-4798-8A8E-A6F28D16A64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6B263-8240-4A4E-A060-B225769CBAC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C924C-C4D4-42FF-91E7-C019BC50C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5613-C663-4899-A014-1C919801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C20BE-D3AC-41E8-873F-991D977EB87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B8E51-6A78-4F1C-967C-EEA305B91CA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52364-3EF0-48EC-8CAE-4ABCDFDB520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D76EF-17A9-46A8-AC90-1276D42D287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103BC-BBE7-47CE-9D7B-2C31F2B4CA5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260EA-7528-4040-97A2-59949751C99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09856-7BE2-4ECE-A08F-21E85C7BEB5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72125B-D633-479A-B1BA-3EA76B94B6B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DAFA89-22FB-40EA-AE56-DE4FE9E77FC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BE05CA-8B26-4612-B754-7384C876E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1F03835-A826-460D-84F8-763A3374808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B948FC4-C6EF-4C50-8F7D-0254E4BA2F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75C6FC9-D568-4D21-A5BD-F6B9F126F1D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1025DEE-C309-4B6E-AAD3-454044D1E71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FC3D625-E2DB-4C19-AAD3-1B4F0E2BA71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B673B33-03E6-4099-83DB-09E8E191FCB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82E04A1-9CE5-4536-B450-D442720F60D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2BFB4AC-D046-43D2-B101-53D5BD0ACF3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76A90A5-3259-4A64-859A-EE55C1ECEA2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41A0188-BFD6-45CF-806D-4CFC8BF0A25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A92543-B95F-43DC-BA72-4222865F38F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C5CB8E4-B6BA-4B0E-A012-E5ABDE9C986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AD7EEF0-7974-4D74-9ABD-6C3F09711A4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17BDB83-33BD-4406-B22F-493E33005B6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06C1147-A577-4DE3-8BEC-36F18A305B1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41F8003-3068-4E42-80CE-5DAA7E83BA5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siu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diku.no/" TargetMode="External"/><Relationship Id="rId2" Type="http://schemas.openxmlformats.org/officeDocument/2006/relationships/hyperlink" Target="https://diku.no/" TargetMode="External"/><Relationship Id="rId3" Type="http://schemas.openxmlformats.org/officeDocument/2006/relationships/hyperlink" Target="https://diku.no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08.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ngļu valodā jāizmanto tāds partneru organizācijas nosaukums, kādu organizācija lieto pati 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2797C73-BF9C-45FC-8934-D493F40E090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EF0294E-CFE1-475E-906F-D4B6C35D4BC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ACF17C2-3E10-44D5-9BBF-A49B4DDCA83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42AE107-5DBF-463B-8F0F-5AF8DA2C5CC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!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Ja sagatavošanas vizītes pieteikums tiks atbalstīts, šie bankas rekvizīti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siu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Espresso sistēmas uzturētājs ir Norvēģijas Augstākās izglītības kvalitātes paaugstināšanas un starptautiskās sadarbības aģentūra  DIKU  (</a:t>
            </a:r>
            <a:r>
              <a:rPr b="0" i="1" lang="nn-NO" sz="3000" spc="-1" strike="noStrike">
                <a:solidFill>
                  <a:srgbClr val="000000"/>
                </a:solidFill>
                <a:latin typeface="Calibri"/>
                <a:ea typeface="Verdana"/>
              </a:rPr>
              <a:t>Direktoratet for internasjonalisering og kvalitetsutvikling i høgare utdanning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diku.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62520" y="4641840"/>
            <a:ext cx="275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2" descr=""/>
          <p:cNvPicPr/>
          <p:nvPr/>
        </p:nvPicPr>
        <p:blipFill>
          <a:blip r:embed="rId3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49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1" descr=""/>
          <p:cNvPicPr/>
          <p:nvPr/>
        </p:nvPicPr>
        <p:blipFill>
          <a:blip r:embed="rId3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6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2012760" y="1775880"/>
            <a:ext cx="687060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darba kārtīb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6" descr=""/>
          <p:cNvPicPr/>
          <p:nvPr/>
        </p:nvPicPr>
        <p:blipFill>
          <a:blip r:embed="rId2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185CBFB-D4C5-4F37-BC3A-70178289BE9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CEC7F5A-8267-4EA1-A9F9-60F8782B272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0-09-07T12:26:45Z</dcterms:modified>
  <cp:revision>136</cp:revision>
  <dc:subject/>
  <dc:title>PowerPoint Presentation</dc:title>
</cp:coreProperties>
</file>